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png" ContentType="image/png"/>
  <Override PartName="/ppt/media/image7.png" ContentType="image/png"/>
  <Override PartName="/ppt/media/image8.gif" ContentType="image/gi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11A-770F-4598-94D2-66D64790A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5815-9A3D-468B-84BA-3A3231CAF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38EC3-2381-4D80-A711-68EB798AE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F7AD4-1B80-48D8-B3E9-D448F6A8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CDE975-6B29-49AD-9442-42CFE121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ADD6B9-F694-4030-9713-3CADEA5A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0C0E08-46EF-41DA-B867-CC2F8C15F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BD40F-20EE-4E2A-B8E2-FD3E9C38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E7AB2-B908-4CE8-A541-CCCEEC09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7438B-3620-443F-BC7D-A7785CBA9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D74A1-C75D-453E-92DF-E57173A5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2433EC-AD4D-490B-839B-8B28BC020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431-63D7-47E4-B0CD-70A910DD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16B600-4B55-420F-BF98-CFC6ED01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93B73-D58A-4CCA-B774-ED3AA8459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16D04-1896-480D-94F0-DE3C5194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479B7-60B5-43A8-96C5-D211173AE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B3C522-905A-4193-8FC2-FDF54C08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9D8A9-DEA9-4D95-8F4A-210E2493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CF0DEE-46B3-4D1C-9E9B-2F5A647D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3CDF2A-6947-4425-8EEB-2A351073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5008EF-7C6C-44E2-B5AA-1697D87F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A24A0-5356-438A-8A90-2D9C4971D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292B-9358-41CB-9606-96B724C6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0B06C-90C1-479F-935A-6F614431D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1BD97-97FA-48F8-8023-A2A4A87E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9D813-3D84-49CB-9071-D8780441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CBD340-D04D-428D-85B5-CB974347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9B8DE-F58B-4F2B-944B-857B9F5CB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DFA195-6492-4FA2-AD49-C1786E9A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D115CE-72EB-4385-8858-84C9B407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5A6535-1CD7-4DC8-9BA8-2BB7398F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60D44-9E88-4C34-BD34-6590835D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9507B-599B-494C-947D-97E4342D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B2D1-DD99-4E19-A2CB-F2B1C6FEF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FF95C-2D7F-42E7-9832-256C4D8D2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B9F46-8035-4BDA-8DDC-FA3DA28D8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1DCCC-EA72-48D4-94B3-AD14AA850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1DB7B2-BE00-432E-910B-6F6593F86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FEBF10-6A6B-43ED-A2AC-113F95979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77538C-7D0D-4B9B-A73F-7D2CC7E0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633E9-6729-49AB-921C-9E210E20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2A715-E5B2-4BF7-A5BE-6CFB8C00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2D4679-EFDB-4E9F-A6C4-6C1F85B9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A54297-C9C5-4CEA-9FF6-CF25856E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FCF2F-A68F-48A1-9720-2B8F81796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9151E-110A-4F05-8E9B-640F95EF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A6100A-4871-43D4-9039-1723E39EF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0E7BE3-84BF-4176-8A0F-4646EA08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0218C-CEEE-494C-ABBD-4C347DB10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D16B13-1AF1-4FED-98E7-5E91A21B0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AD8FF-43A9-4391-A913-C94A2E6E9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DE7A-0606-4AAB-8C4A-D351C980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4CDE1-BF98-4B73-9EB8-A931A9DA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951A-1FAD-4503-B556-C2D62DDDF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D5BF-6D50-45DE-8BD6-46141832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D2C3-2671-4166-B8D9-0694D4F7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584C-DC55-4C49-883B-4274BE8C5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FF02-8EBC-44EB-B23D-1B2D1BB6B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B7DB-E78F-46DC-B5FD-0E460AD9F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C317-AF9C-4953-89A7-99AEFFA11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92B41-84B3-4E5F-8511-530AE63AF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FFA36-3A27-4A7A-8E36-8896A4D2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FF971-3436-4E21-8216-A21CFF5B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1B884-11EA-4E22-A06A-875A6FD1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D5AC6-E635-4AA1-83AD-174F4876A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B2B32-C3A2-4F94-9C7C-8671EC160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B7A0-A1D7-4020-8BFE-BE5442DE0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0F60F-258B-46A9-823F-D2E325274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8164D-0DCE-4421-A757-8B976414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4B1F1-CB3D-4C15-B4DE-C574B1469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4549-BEDD-4126-B34D-D9E41889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A2D95-CB72-4698-8C0D-7302D38D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431B1-D943-4EE3-A17E-E8764C4A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FFEA8E-6068-4D9B-ACC4-D7FF86669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9CC3F-44ED-4B0C-998B-4E9DFD74E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B3967-8FB3-497F-82D7-DD0B4FC7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EFA77-BA7D-4736-B0BE-FA5173247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710-CF04-4246-B861-1CCFF3C6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C80EB-FBFC-4F0F-994C-DC524F689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630DE-5670-427E-B5F1-B2599E3E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622B8-4FBB-4C7A-A355-88190DB8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C6516-6040-4B98-9554-D98A7346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EAA79-99BF-4A78-AB6D-3D04947A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71A37-05E7-4522-99C6-CA72A709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7D08F-0B72-4BBE-BB63-8F5F3EA5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7AFC90-59AF-4D23-A18E-83ED388C1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D9575-7A46-40A5-A25F-E4FD4B60B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A8A46-1032-4CB9-8E36-2EC6F68C0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A551-5954-4ED1-943B-D12CFFA11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495EC0-7E5E-4D57-BB92-2C781DB0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9C1FC9-F408-4EA5-AE92-FF1EBC38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BC308-E70C-461F-A6BD-D70CF27F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9FB06-4D16-4831-86F9-8AA76912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1BB46-F5B5-4820-925B-98EEAE1C7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ECC11-B324-4AB5-9838-B103947B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3E61C9-95BE-4115-800F-D99F75C7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9485D-7686-4ED4-A037-BA1D3014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5E1ED-91C1-4AB0-887A-72075FF5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F1793-CA86-4DCB-9987-189431C01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68D4-3A57-43A9-98DC-55A03199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2C854-57EC-4C87-941E-3058A0A5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DC08C7-6B54-42DB-B3BC-2640AE46F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F95C9-B895-42D6-85BC-2DDD54F8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E49D8-B73F-4794-97F1-05167A7C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133A8-1309-4024-AB3C-3DF11E33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2916C-5A71-4B72-A8E9-1CFBB43E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F9E3B-F0B3-4DE4-A804-617ED6C8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1481CF-35CA-4DB6-82FD-177A6435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3B883-828C-43AC-A875-4CAE416D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F89199-F59B-4FEA-A618-82DCA6B8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214C-965A-4BB6-9A9A-92B0E2D3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D5487-BA74-4BB5-813D-09AEDAE13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5C7CF-C49B-4A04-B615-5136D80A5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C90EE-9A01-4FA2-9EA8-935E1898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DBE49-1351-4A9A-A527-0EEF088E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175FE-69D9-402E-A4A8-CEA6753A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CF2A9-2259-4653-8382-51B6FCE4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EC6A0-D9A9-4C76-9E7A-2F0A3EF0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98BBE-9FEC-476C-9E7A-5F53865B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2D397B-675C-4AE1-8E80-361C92BC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0C6DA4-ABC1-4624-80C7-0761DCCB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5289-4BB7-4E11-865D-D54A159A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CD6FD-9D41-4EE0-83C5-62B6532B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F08F7A-1736-4340-BE28-1AE05A4A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EFCCA-9042-4450-9093-2C711683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DB06E-5C42-4BEF-BA0F-1D7015DB9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CC2D5-3D6A-4FEE-9F8D-0BB4B689E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97321-7EFC-4CED-8199-0DA71CBE4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C3872B-CE0E-4E8A-9C19-62A36F8A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4FD473-96A2-4445-9738-94DF4B0E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B8136-FF00-475E-9C66-B9C4A01D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ABA72F-6E92-4C57-AAA5-0E7BEF9F1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964A-2496-4896-A90D-2F1C4F125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2A852-75DF-40D0-8A8E-6446AAE7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2FAA4E-CF33-48EC-AFCB-7ACEDB09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B140C-C30E-430F-8FCE-DC3B90BD1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C033A-A228-48CF-9F4A-0056AF000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CAFB5-FF7D-4D8F-9A4E-3291536C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AC7A3-9FF4-4FBB-AEED-773206A19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D1592-D837-4CE1-8C5A-428171D7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05BDA0-6C59-45D5-B148-846851863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EC8CB1-40EF-452C-B20C-E77E30E6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A15829-7B79-464F-8DF7-2C11A4541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7F82-DA68-4ACB-A107-AC4A4E745C91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CB3B3-5043-4CC8-887D-5EED3F4AEF1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D762-29F4-46D8-AC9D-FEEAE6F5B40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D9DA-6C7A-410F-85E3-C85B7AD1B55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BF65-A249-4416-9A17-F2367B77679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C0E8-84BA-4E17-9F76-35FB83DA595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B6D5-121B-45B4-B323-1E06246B293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96C5-CFCA-447A-B82F-7F82356365E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8A36B-6663-490F-B197-438304ADF77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CBDC-B106-443B-AFB1-FC176325D4E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4EF0B-B048-4A11-9BF4-E94E42E6D7B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3B566-1550-4E7C-9FB3-04393E7BA4B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1"/>
          <p:cNvSpPr/>
          <p:nvPr/>
        </p:nvSpPr>
        <p:spPr>
          <a:xfrm>
            <a:off x="1601640" y="1765440"/>
            <a:ext cx="605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</a:t>
            </a:r>
            <a:r>
              <a:rPr b="0" i="1" lang="en-US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16 </a:t>
            </a: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朱德的扁担</a:t>
            </a:r>
            <a:endParaRPr b="0" i="1" lang="en-US" sz="6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07" name="图片 3" descr=""/>
          <p:cNvPicPr/>
          <p:nvPr/>
        </p:nvPicPr>
        <p:blipFill>
          <a:blip r:embed="rId1"/>
          <a:stretch/>
        </p:blipFill>
        <p:spPr>
          <a:xfrm>
            <a:off x="760320" y="2619360"/>
            <a:ext cx="4200480" cy="3808440"/>
          </a:xfrm>
          <a:prstGeom prst="rect">
            <a:avLst/>
          </a:prstGeom>
          <a:ln w="0">
            <a:noFill/>
          </a:ln>
        </p:spPr>
      </p:pic>
      <p:pic>
        <p:nvPicPr>
          <p:cNvPr id="508" name="图片 4" descr=""/>
          <p:cNvPicPr/>
          <p:nvPr/>
        </p:nvPicPr>
        <p:blipFill>
          <a:blip r:embed="rId2"/>
          <a:stretch/>
        </p:blipFill>
        <p:spPr>
          <a:xfrm>
            <a:off x="4281480" y="2546280"/>
            <a:ext cx="4221000" cy="39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468000" y="1197000"/>
            <a:ext cx="803412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928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月，朱德同志带领队伍到井冈山和毛泽东同志胜利会师后，国民党就把井冈山革命根据地视为眼中钉、肉中刺，千方百计想拔掉它。他们在两次围剿失败后，又实行了经济封锁，妄图把红军饿死、冻死、困死。这时，从山下秘密挑粮上山成了红军的一项重要任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3"/>
          <p:cNvSpPr/>
          <p:nvPr/>
        </p:nvSpPr>
        <p:spPr>
          <a:xfrm>
            <a:off x="5536440" y="1494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ff0000"/>
                </a:solidFill>
                <a:uFillTx/>
                <a:latin typeface="华文彩云"/>
                <a:ea typeface="华文彩云"/>
              </a:rPr>
              <a:t>历史背景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图片 3" descr=""/>
          <p:cNvPicPr/>
          <p:nvPr/>
        </p:nvPicPr>
        <p:blipFill>
          <a:blip r:embed="rId1"/>
          <a:stretch/>
        </p:blipFill>
        <p:spPr>
          <a:xfrm>
            <a:off x="287280" y="981000"/>
            <a:ext cx="8569440" cy="53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矩形 4"/>
          <p:cNvSpPr/>
          <p:nvPr/>
        </p:nvSpPr>
        <p:spPr>
          <a:xfrm>
            <a:off x="1344960" y="1341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cc"/>
                </a:solidFill>
                <a:uFillTx/>
                <a:latin typeface="华文彩云"/>
                <a:ea typeface="华文彩云"/>
              </a:rPr>
              <a:t>阅读提示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1" name="矩形 3"/>
          <p:cNvSpPr/>
          <p:nvPr/>
        </p:nvSpPr>
        <p:spPr>
          <a:xfrm>
            <a:off x="826920" y="2349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分小组用自己喜欢的读书方式，正确流利地朗读课文，想一想：战士们为什么要藏朱德的扁担？后来为什么又不藏了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7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矩形 2"/>
          <p:cNvSpPr/>
          <p:nvPr/>
        </p:nvSpPr>
        <p:spPr>
          <a:xfrm>
            <a:off x="1332000" y="119700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     </a:t>
            </a: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Calibri"/>
                <a:ea typeface="宋体"/>
              </a:rPr>
              <a:t>战士们不想让朱德挑粮是心疼他，从哪些句子看出挑粮很辛苦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23" name="矩形 3"/>
          <p:cNvSpPr/>
          <p:nvPr/>
        </p:nvSpPr>
        <p:spPr>
          <a:xfrm>
            <a:off x="880920" y="3213000"/>
            <a:ext cx="766944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从井冈山上到茅坪，来回有五六十里，山高路陡，非常难走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矩形 3"/>
          <p:cNvSpPr/>
          <p:nvPr/>
        </p:nvSpPr>
        <p:spPr>
          <a:xfrm>
            <a:off x="4211640" y="112536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华文楷体"/>
                <a:ea typeface="华文楷体"/>
              </a:rPr>
              <a:t>他穿着草鞋，戴着斗笠，挑起粮食，跟大家一块儿爬山。白天挑粮爬山，晚上还常常整夜整夜地研究怎样跟敌人打仗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25" name="图片 1" descr=""/>
          <p:cNvPicPr/>
          <p:nvPr/>
        </p:nvPicPr>
        <p:blipFill>
          <a:blip r:embed="rId1"/>
          <a:stretch/>
        </p:blipFill>
        <p:spPr>
          <a:xfrm>
            <a:off x="539640" y="1341360"/>
            <a:ext cx="3672000" cy="464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图片 1" descr=""/>
          <p:cNvPicPr/>
          <p:nvPr/>
        </p:nvPicPr>
        <p:blipFill>
          <a:blip r:embed="rId1"/>
          <a:stretch/>
        </p:blipFill>
        <p:spPr>
          <a:xfrm>
            <a:off x="179280" y="1123920"/>
            <a:ext cx="8815320" cy="496908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 txBox="1"/>
          <p:nvPr/>
        </p:nvSpPr>
        <p:spPr>
          <a:xfrm>
            <a:off x="2268000" y="1591920"/>
            <a:ext cx="4131000" cy="4032360"/>
          </a:xfrm>
          <a:prstGeom prst="rect">
            <a:avLst/>
          </a:prstGeom>
          <a:solidFill>
            <a:srgbClr val="ffffff"/>
          </a:solidFill>
          <a:ln w="12600">
            <a:solidFill>
              <a:srgbClr val="e2e2ff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朱德挑谷上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粮食绝对可靠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大家齐心协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3600" spc="-1" strike="noStrike">
                <a:solidFill>
                  <a:srgbClr val="000000"/>
                </a:solidFill>
                <a:latin typeface="楷体"/>
                <a:ea typeface="楷体"/>
              </a:rPr>
              <a:t>粉碎敌人围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图片 4" descr="t016776e8f4052c6342.gif"/>
          <p:cNvPicPr/>
          <p:nvPr/>
        </p:nvPicPr>
        <p:blipFill>
          <a:blip r:embed="rId1"/>
          <a:stretch/>
        </p:blipFill>
        <p:spPr>
          <a:xfrm flipH="1">
            <a:off x="5796000" y="3500280"/>
            <a:ext cx="2448000" cy="2300400"/>
          </a:xfrm>
          <a:prstGeom prst="rect">
            <a:avLst/>
          </a:prstGeom>
          <a:ln w="0">
            <a:noFill/>
          </a:ln>
        </p:spPr>
      </p:pic>
      <p:sp>
        <p:nvSpPr>
          <p:cNvPr id="629" name="矩形 5"/>
          <p:cNvSpPr/>
          <p:nvPr/>
        </p:nvSpPr>
        <p:spPr>
          <a:xfrm>
            <a:off x="826920" y="1628640"/>
            <a:ext cx="75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他的精神令人敬佩，一直到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958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年，已是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72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岁高龄的他还到十三陵水库和大家一起挑土修水库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4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图片 1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631" name="矩形 2"/>
          <p:cNvSpPr/>
          <p:nvPr/>
        </p:nvSpPr>
        <p:spPr>
          <a:xfrm>
            <a:off x="3060000" y="2254320"/>
            <a:ext cx="228384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3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再见</a:t>
            </a:r>
            <a:endParaRPr b="0" i="1" lang="en-US" sz="13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标题 1"/>
          <p:cNvSpPr/>
          <p:nvPr/>
        </p:nvSpPr>
        <p:spPr>
          <a:xfrm>
            <a:off x="611280" y="263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第一课时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4"/>
          <p:cNvSpPr/>
          <p:nvPr/>
        </p:nvSpPr>
        <p:spPr>
          <a:xfrm>
            <a:off x="6100560" y="18900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资料袋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1" name="矩形 1"/>
          <p:cNvSpPr/>
          <p:nvPr/>
        </p:nvSpPr>
        <p:spPr>
          <a:xfrm>
            <a:off x="611280" y="1628640"/>
            <a:ext cx="77058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朱德（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1886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～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1976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） 马克思列宁主义者，中国无产阶级革命家、政治家、军事家，中国共产党、中华人民共和国的主要领导人，中国人民解放军的主要创建人和领导人。字玉阶，四川仪陇人。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1955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年被授予中华人民共和国元帅军衔。在参与领导社会主义建设中，为实现农业、工业、国防和科学技术现代化的伟大历史任务作了巨大努力。主要著作编入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《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朱德选集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》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。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矩形 4"/>
          <p:cNvSpPr/>
          <p:nvPr/>
        </p:nvSpPr>
        <p:spPr>
          <a:xfrm>
            <a:off x="5577840" y="1494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ccccff"/>
                </a:solidFill>
                <a:uFillTx/>
                <a:latin typeface="华文彩云"/>
                <a:ea typeface="华文彩云"/>
              </a:rPr>
              <a:t>阅读提示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3" name="矩形 3"/>
          <p:cNvSpPr/>
          <p:nvPr/>
        </p:nvSpPr>
        <p:spPr>
          <a:xfrm>
            <a:off x="611280" y="1557360"/>
            <a:ext cx="8353440" cy="326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ff0000"/>
                </a:solidFill>
                <a:uFillTx/>
                <a:latin typeface="华文彩云"/>
                <a:ea typeface="华文彩云"/>
              </a:rPr>
              <a:t>自由朗读课文并完成下列任务：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不认识的字可以看拼音，或者请教老师和同学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;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准每一个字的字音，圈出生字词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读通每个句子，读不通顺的多读几遍；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4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给每个自然段写上序号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1618920" y="141300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ǎ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d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à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zhì   w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扁     担    志    伍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ī  j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ū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zh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àn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  shì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cc"/>
                </a:solidFill>
                <a:latin typeface="Arial"/>
              </a:rPr>
              <a:t>师 军    战     士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671400" y="1257480"/>
            <a:ext cx="78012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朱德 扁担 抽出 敌人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斗笠 打仗 心疼 不料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敬爱 山高路陡 难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一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5092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华文彩云"/>
                <a:ea typeface="华文彩云"/>
              </a:rPr>
              <a:t>填一填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95280" y="227628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带领大家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，战士们心疼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，把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藏起来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在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写上（</a:t>
            </a: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）五个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图片 7" descr="t016776e8f4052c6342.gif"/>
          <p:cNvPicPr/>
          <p:nvPr/>
        </p:nvPicPr>
        <p:blipFill>
          <a:blip r:embed="rId1"/>
          <a:stretch/>
        </p:blipFill>
        <p:spPr>
          <a:xfrm>
            <a:off x="374760" y="3792600"/>
            <a:ext cx="1962000" cy="1960560"/>
          </a:xfrm>
          <a:prstGeom prst="rect">
            <a:avLst/>
          </a:prstGeom>
          <a:ln w="0">
            <a:noFill/>
          </a:ln>
        </p:spPr>
      </p:pic>
      <p:sp>
        <p:nvSpPr>
          <p:cNvPr id="519" name="矩形 8"/>
          <p:cNvSpPr/>
          <p:nvPr/>
        </p:nvSpPr>
        <p:spPr>
          <a:xfrm>
            <a:off x="5846040" y="555480"/>
            <a:ext cx="152172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200"/>
              </a:lnSpc>
              <a:tabLst>
                <a:tab algn="l" pos="0"/>
                <a:tab algn="l" pos="636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写字有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0" name="Group 29"/>
          <p:cNvGrpSpPr/>
          <p:nvPr/>
        </p:nvGrpSpPr>
        <p:grpSpPr>
          <a:xfrm>
            <a:off x="739800" y="1859040"/>
            <a:ext cx="1503360" cy="1360440"/>
            <a:chOff x="739800" y="1859040"/>
            <a:chExt cx="1503360" cy="1360440"/>
          </a:xfrm>
        </p:grpSpPr>
        <p:sp>
          <p:nvSpPr>
            <p:cNvPr id="521" name="Rectangle 30"/>
            <p:cNvSpPr/>
            <p:nvPr/>
          </p:nvSpPr>
          <p:spPr>
            <a:xfrm>
              <a:off x="149148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2" name="Rectangle 31"/>
            <p:cNvSpPr/>
            <p:nvPr/>
          </p:nvSpPr>
          <p:spPr>
            <a:xfrm>
              <a:off x="73980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3" name="Rectangle 32"/>
            <p:cNvSpPr/>
            <p:nvPr/>
          </p:nvSpPr>
          <p:spPr>
            <a:xfrm>
              <a:off x="149148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4" name="Rectangle 33"/>
            <p:cNvSpPr/>
            <p:nvPr/>
          </p:nvSpPr>
          <p:spPr>
            <a:xfrm>
              <a:off x="73980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5" name="Line 34"/>
            <p:cNvSpPr/>
            <p:nvPr/>
          </p:nvSpPr>
          <p:spPr>
            <a:xfrm>
              <a:off x="73980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6" name="Line 35"/>
            <p:cNvSpPr/>
            <p:nvPr/>
          </p:nvSpPr>
          <p:spPr>
            <a:xfrm>
              <a:off x="73980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7" name="Line 36"/>
            <p:cNvSpPr/>
            <p:nvPr/>
          </p:nvSpPr>
          <p:spPr>
            <a:xfrm>
              <a:off x="73980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8" name="Line 37"/>
            <p:cNvSpPr/>
            <p:nvPr/>
          </p:nvSpPr>
          <p:spPr>
            <a:xfrm>
              <a:off x="73980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9" name="Line 38"/>
            <p:cNvSpPr/>
            <p:nvPr/>
          </p:nvSpPr>
          <p:spPr>
            <a:xfrm>
              <a:off x="149148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0" name="Line 39"/>
            <p:cNvSpPr/>
            <p:nvPr/>
          </p:nvSpPr>
          <p:spPr>
            <a:xfrm>
              <a:off x="22431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31" name="Text Box 40"/>
          <p:cNvSpPr/>
          <p:nvPr/>
        </p:nvSpPr>
        <p:spPr>
          <a:xfrm>
            <a:off x="804960" y="17496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扁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32" name="Group 29"/>
          <p:cNvGrpSpPr/>
          <p:nvPr/>
        </p:nvGrpSpPr>
        <p:grpSpPr>
          <a:xfrm>
            <a:off x="2297160" y="1859040"/>
            <a:ext cx="1504800" cy="1360440"/>
            <a:chOff x="2297160" y="1859040"/>
            <a:chExt cx="1504800" cy="1360440"/>
          </a:xfrm>
        </p:grpSpPr>
        <p:sp>
          <p:nvSpPr>
            <p:cNvPr id="533" name="Rectangle 30"/>
            <p:cNvSpPr/>
            <p:nvPr/>
          </p:nvSpPr>
          <p:spPr>
            <a:xfrm>
              <a:off x="3049560" y="253368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4" name="Rectangle 31"/>
            <p:cNvSpPr/>
            <p:nvPr/>
          </p:nvSpPr>
          <p:spPr>
            <a:xfrm>
              <a:off x="2297160" y="253368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5" name="Rectangle 32"/>
            <p:cNvSpPr/>
            <p:nvPr/>
          </p:nvSpPr>
          <p:spPr>
            <a:xfrm>
              <a:off x="3049560" y="185904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6" name="Rectangle 33"/>
            <p:cNvSpPr/>
            <p:nvPr/>
          </p:nvSpPr>
          <p:spPr>
            <a:xfrm>
              <a:off x="2297160" y="185904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7" name="Line 34"/>
            <p:cNvSpPr/>
            <p:nvPr/>
          </p:nvSpPr>
          <p:spPr>
            <a:xfrm>
              <a:off x="2297160" y="185904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8" name="Line 35"/>
            <p:cNvSpPr/>
            <p:nvPr/>
          </p:nvSpPr>
          <p:spPr>
            <a:xfrm>
              <a:off x="2297160" y="253368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9" name="Line 36"/>
            <p:cNvSpPr/>
            <p:nvPr/>
          </p:nvSpPr>
          <p:spPr>
            <a:xfrm>
              <a:off x="2297160" y="321948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0" name="Line 37"/>
            <p:cNvSpPr/>
            <p:nvPr/>
          </p:nvSpPr>
          <p:spPr>
            <a:xfrm>
              <a:off x="22971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1" name="Line 38"/>
            <p:cNvSpPr/>
            <p:nvPr/>
          </p:nvSpPr>
          <p:spPr>
            <a:xfrm>
              <a:off x="304956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2" name="Line 39"/>
            <p:cNvSpPr/>
            <p:nvPr/>
          </p:nvSpPr>
          <p:spPr>
            <a:xfrm>
              <a:off x="38019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3" name="Text Box 40"/>
          <p:cNvSpPr/>
          <p:nvPr/>
        </p:nvSpPr>
        <p:spPr>
          <a:xfrm>
            <a:off x="2362320" y="174960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担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4" name="Group 29"/>
          <p:cNvGrpSpPr/>
          <p:nvPr/>
        </p:nvGrpSpPr>
        <p:grpSpPr>
          <a:xfrm>
            <a:off x="3852720" y="1859040"/>
            <a:ext cx="1503360" cy="1360440"/>
            <a:chOff x="3852720" y="1859040"/>
            <a:chExt cx="1503360" cy="1360440"/>
          </a:xfrm>
        </p:grpSpPr>
        <p:sp>
          <p:nvSpPr>
            <p:cNvPr id="545" name="Rectangle 30"/>
            <p:cNvSpPr/>
            <p:nvPr/>
          </p:nvSpPr>
          <p:spPr>
            <a:xfrm>
              <a:off x="460440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6" name="Rectangle 31"/>
            <p:cNvSpPr/>
            <p:nvPr/>
          </p:nvSpPr>
          <p:spPr>
            <a:xfrm>
              <a:off x="385272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7" name="Rectangle 32"/>
            <p:cNvSpPr/>
            <p:nvPr/>
          </p:nvSpPr>
          <p:spPr>
            <a:xfrm>
              <a:off x="460440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8" name="Rectangle 33"/>
            <p:cNvSpPr/>
            <p:nvPr/>
          </p:nvSpPr>
          <p:spPr>
            <a:xfrm>
              <a:off x="385272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9" name="Line 34"/>
            <p:cNvSpPr/>
            <p:nvPr/>
          </p:nvSpPr>
          <p:spPr>
            <a:xfrm>
              <a:off x="385272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0" name="Line 35"/>
            <p:cNvSpPr/>
            <p:nvPr/>
          </p:nvSpPr>
          <p:spPr>
            <a:xfrm>
              <a:off x="385272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1" name="Line 36"/>
            <p:cNvSpPr/>
            <p:nvPr/>
          </p:nvSpPr>
          <p:spPr>
            <a:xfrm>
              <a:off x="385272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2" name="Line 37"/>
            <p:cNvSpPr/>
            <p:nvPr/>
          </p:nvSpPr>
          <p:spPr>
            <a:xfrm>
              <a:off x="385272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3" name="Line 38"/>
            <p:cNvSpPr/>
            <p:nvPr/>
          </p:nvSpPr>
          <p:spPr>
            <a:xfrm>
              <a:off x="460440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4" name="Line 39"/>
            <p:cNvSpPr/>
            <p:nvPr/>
          </p:nvSpPr>
          <p:spPr>
            <a:xfrm>
              <a:off x="535608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5" name="Text Box 40"/>
          <p:cNvSpPr/>
          <p:nvPr/>
        </p:nvSpPr>
        <p:spPr>
          <a:xfrm>
            <a:off x="3916440" y="174960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志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56" name="Group 29"/>
          <p:cNvGrpSpPr/>
          <p:nvPr/>
        </p:nvGrpSpPr>
        <p:grpSpPr>
          <a:xfrm>
            <a:off x="5432400" y="1859040"/>
            <a:ext cx="1503360" cy="1360440"/>
            <a:chOff x="5432400" y="1859040"/>
            <a:chExt cx="1503360" cy="1360440"/>
          </a:xfrm>
        </p:grpSpPr>
        <p:sp>
          <p:nvSpPr>
            <p:cNvPr id="557" name="Rectangle 30"/>
            <p:cNvSpPr/>
            <p:nvPr/>
          </p:nvSpPr>
          <p:spPr>
            <a:xfrm>
              <a:off x="6184080" y="253368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8" name="Rectangle 31"/>
            <p:cNvSpPr/>
            <p:nvPr/>
          </p:nvSpPr>
          <p:spPr>
            <a:xfrm>
              <a:off x="5432400" y="253368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59" name="Rectangle 32"/>
            <p:cNvSpPr/>
            <p:nvPr/>
          </p:nvSpPr>
          <p:spPr>
            <a:xfrm>
              <a:off x="6184080" y="185904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0" name="Rectangle 33"/>
            <p:cNvSpPr/>
            <p:nvPr/>
          </p:nvSpPr>
          <p:spPr>
            <a:xfrm>
              <a:off x="5432400" y="185904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1" name="Line 34"/>
            <p:cNvSpPr/>
            <p:nvPr/>
          </p:nvSpPr>
          <p:spPr>
            <a:xfrm>
              <a:off x="5432400" y="185904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2" name="Line 35"/>
            <p:cNvSpPr/>
            <p:nvPr/>
          </p:nvSpPr>
          <p:spPr>
            <a:xfrm>
              <a:off x="5432400" y="253368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3" name="Line 36"/>
            <p:cNvSpPr/>
            <p:nvPr/>
          </p:nvSpPr>
          <p:spPr>
            <a:xfrm>
              <a:off x="5432400" y="321948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4" name="Line 37"/>
            <p:cNvSpPr/>
            <p:nvPr/>
          </p:nvSpPr>
          <p:spPr>
            <a:xfrm>
              <a:off x="543240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5" name="Line 38"/>
            <p:cNvSpPr/>
            <p:nvPr/>
          </p:nvSpPr>
          <p:spPr>
            <a:xfrm>
              <a:off x="6184080" y="185904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66" name="Line 39"/>
            <p:cNvSpPr/>
            <p:nvPr/>
          </p:nvSpPr>
          <p:spPr>
            <a:xfrm>
              <a:off x="6935760" y="185904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67" name="Text Box 40"/>
          <p:cNvSpPr/>
          <p:nvPr/>
        </p:nvSpPr>
        <p:spPr>
          <a:xfrm>
            <a:off x="5495760" y="174960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伍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68" name="Group 29"/>
          <p:cNvGrpSpPr/>
          <p:nvPr/>
        </p:nvGrpSpPr>
        <p:grpSpPr>
          <a:xfrm>
            <a:off x="7012080" y="1855800"/>
            <a:ext cx="1503360" cy="1359000"/>
            <a:chOff x="7012080" y="1855800"/>
            <a:chExt cx="1503360" cy="1359000"/>
          </a:xfrm>
        </p:grpSpPr>
        <p:sp>
          <p:nvSpPr>
            <p:cNvPr id="569" name="Rectangle 30"/>
            <p:cNvSpPr/>
            <p:nvPr/>
          </p:nvSpPr>
          <p:spPr>
            <a:xfrm>
              <a:off x="7763760" y="2529720"/>
              <a:ext cx="75132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0" name="Rectangle 31"/>
            <p:cNvSpPr/>
            <p:nvPr/>
          </p:nvSpPr>
          <p:spPr>
            <a:xfrm>
              <a:off x="7012080" y="2529720"/>
              <a:ext cx="751680" cy="6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1" name="Rectangle 32"/>
            <p:cNvSpPr/>
            <p:nvPr/>
          </p:nvSpPr>
          <p:spPr>
            <a:xfrm>
              <a:off x="7763760" y="1855800"/>
              <a:ext cx="75132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2" name="Rectangle 33"/>
            <p:cNvSpPr/>
            <p:nvPr/>
          </p:nvSpPr>
          <p:spPr>
            <a:xfrm>
              <a:off x="7012080" y="1855800"/>
              <a:ext cx="751680" cy="67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3" name="Line 34"/>
            <p:cNvSpPr/>
            <p:nvPr/>
          </p:nvSpPr>
          <p:spPr>
            <a:xfrm>
              <a:off x="7012080" y="185580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4" name="Line 35"/>
            <p:cNvSpPr/>
            <p:nvPr/>
          </p:nvSpPr>
          <p:spPr>
            <a:xfrm>
              <a:off x="7012080" y="252972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5" name="Line 36"/>
            <p:cNvSpPr/>
            <p:nvPr/>
          </p:nvSpPr>
          <p:spPr>
            <a:xfrm>
              <a:off x="7012080" y="321480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6" name="Line 37"/>
            <p:cNvSpPr/>
            <p:nvPr/>
          </p:nvSpPr>
          <p:spPr>
            <a:xfrm>
              <a:off x="7012080" y="185580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7" name="Line 38"/>
            <p:cNvSpPr/>
            <p:nvPr/>
          </p:nvSpPr>
          <p:spPr>
            <a:xfrm>
              <a:off x="7763760" y="1855800"/>
              <a:ext cx="0" cy="1359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78" name="Line 39"/>
            <p:cNvSpPr/>
            <p:nvPr/>
          </p:nvSpPr>
          <p:spPr>
            <a:xfrm>
              <a:off x="8515440" y="1855800"/>
              <a:ext cx="0" cy="135900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79" name="Text Box 40"/>
          <p:cNvSpPr/>
          <p:nvPr/>
        </p:nvSpPr>
        <p:spPr>
          <a:xfrm>
            <a:off x="5504040" y="361476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军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80" name="Group 29"/>
          <p:cNvGrpSpPr/>
          <p:nvPr/>
        </p:nvGrpSpPr>
        <p:grpSpPr>
          <a:xfrm>
            <a:off x="2297160" y="3759120"/>
            <a:ext cx="1504800" cy="1360440"/>
            <a:chOff x="2297160" y="3759120"/>
            <a:chExt cx="1504800" cy="1360440"/>
          </a:xfrm>
        </p:grpSpPr>
        <p:sp>
          <p:nvSpPr>
            <p:cNvPr id="581" name="Rectangle 30"/>
            <p:cNvSpPr/>
            <p:nvPr/>
          </p:nvSpPr>
          <p:spPr>
            <a:xfrm>
              <a:off x="3049560" y="4433760"/>
              <a:ext cx="75204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2" name="Rectangle 31"/>
            <p:cNvSpPr/>
            <p:nvPr/>
          </p:nvSpPr>
          <p:spPr>
            <a:xfrm>
              <a:off x="2297160" y="4433760"/>
              <a:ext cx="75240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3" name="Rectangle 32"/>
            <p:cNvSpPr/>
            <p:nvPr/>
          </p:nvSpPr>
          <p:spPr>
            <a:xfrm>
              <a:off x="3049560" y="3759120"/>
              <a:ext cx="75204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4" name="Rectangle 33"/>
            <p:cNvSpPr/>
            <p:nvPr/>
          </p:nvSpPr>
          <p:spPr>
            <a:xfrm>
              <a:off x="2297160" y="3759120"/>
              <a:ext cx="75240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5" name="Line 34"/>
            <p:cNvSpPr/>
            <p:nvPr/>
          </p:nvSpPr>
          <p:spPr>
            <a:xfrm>
              <a:off x="2297160" y="375912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6" name="Line 35"/>
            <p:cNvSpPr/>
            <p:nvPr/>
          </p:nvSpPr>
          <p:spPr>
            <a:xfrm>
              <a:off x="2297160" y="4433760"/>
              <a:ext cx="150480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7" name="Line 36"/>
            <p:cNvSpPr/>
            <p:nvPr/>
          </p:nvSpPr>
          <p:spPr>
            <a:xfrm>
              <a:off x="2297160" y="5119560"/>
              <a:ext cx="150480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8" name="Line 37"/>
            <p:cNvSpPr/>
            <p:nvPr/>
          </p:nvSpPr>
          <p:spPr>
            <a:xfrm>
              <a:off x="22971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89" name="Line 38"/>
            <p:cNvSpPr/>
            <p:nvPr/>
          </p:nvSpPr>
          <p:spPr>
            <a:xfrm>
              <a:off x="304956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0" name="Line 39"/>
            <p:cNvSpPr/>
            <p:nvPr/>
          </p:nvSpPr>
          <p:spPr>
            <a:xfrm>
              <a:off x="38019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91" name="Text Box 40"/>
          <p:cNvSpPr/>
          <p:nvPr/>
        </p:nvSpPr>
        <p:spPr>
          <a:xfrm>
            <a:off x="2362320" y="3649680"/>
            <a:ext cx="15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战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92" name="Group 29"/>
          <p:cNvGrpSpPr/>
          <p:nvPr/>
        </p:nvGrpSpPr>
        <p:grpSpPr>
          <a:xfrm>
            <a:off x="3852720" y="3759120"/>
            <a:ext cx="1503360" cy="1360440"/>
            <a:chOff x="3852720" y="3759120"/>
            <a:chExt cx="1503360" cy="1360440"/>
          </a:xfrm>
        </p:grpSpPr>
        <p:sp>
          <p:nvSpPr>
            <p:cNvPr id="593" name="Rectangle 30"/>
            <p:cNvSpPr/>
            <p:nvPr/>
          </p:nvSpPr>
          <p:spPr>
            <a:xfrm>
              <a:off x="4604400" y="443376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4" name="Rectangle 31"/>
            <p:cNvSpPr/>
            <p:nvPr/>
          </p:nvSpPr>
          <p:spPr>
            <a:xfrm>
              <a:off x="3852720" y="443376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5" name="Rectangle 32"/>
            <p:cNvSpPr/>
            <p:nvPr/>
          </p:nvSpPr>
          <p:spPr>
            <a:xfrm>
              <a:off x="4604400" y="375912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6" name="Rectangle 33"/>
            <p:cNvSpPr/>
            <p:nvPr/>
          </p:nvSpPr>
          <p:spPr>
            <a:xfrm>
              <a:off x="3852720" y="375912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7" name="Line 34"/>
            <p:cNvSpPr/>
            <p:nvPr/>
          </p:nvSpPr>
          <p:spPr>
            <a:xfrm>
              <a:off x="3852720" y="37591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8" name="Line 35"/>
            <p:cNvSpPr/>
            <p:nvPr/>
          </p:nvSpPr>
          <p:spPr>
            <a:xfrm>
              <a:off x="3852720" y="443376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99" name="Line 36"/>
            <p:cNvSpPr/>
            <p:nvPr/>
          </p:nvSpPr>
          <p:spPr>
            <a:xfrm>
              <a:off x="3852720" y="51195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0" name="Line 37"/>
            <p:cNvSpPr/>
            <p:nvPr/>
          </p:nvSpPr>
          <p:spPr>
            <a:xfrm>
              <a:off x="385272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1" name="Line 38"/>
            <p:cNvSpPr/>
            <p:nvPr/>
          </p:nvSpPr>
          <p:spPr>
            <a:xfrm>
              <a:off x="460440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2" name="Line 39"/>
            <p:cNvSpPr/>
            <p:nvPr/>
          </p:nvSpPr>
          <p:spPr>
            <a:xfrm>
              <a:off x="535608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03" name="Text Box 40"/>
          <p:cNvSpPr/>
          <p:nvPr/>
        </p:nvSpPr>
        <p:spPr>
          <a:xfrm>
            <a:off x="3916440" y="3649680"/>
            <a:ext cx="151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士 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04" name="Group 29"/>
          <p:cNvGrpSpPr/>
          <p:nvPr/>
        </p:nvGrpSpPr>
        <p:grpSpPr>
          <a:xfrm>
            <a:off x="5432400" y="3759120"/>
            <a:ext cx="1503360" cy="1360440"/>
            <a:chOff x="5432400" y="3759120"/>
            <a:chExt cx="1503360" cy="1360440"/>
          </a:xfrm>
        </p:grpSpPr>
        <p:sp>
          <p:nvSpPr>
            <p:cNvPr id="605" name="Rectangle 30"/>
            <p:cNvSpPr/>
            <p:nvPr/>
          </p:nvSpPr>
          <p:spPr>
            <a:xfrm>
              <a:off x="6184080" y="4433760"/>
              <a:ext cx="75132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6" name="Rectangle 31"/>
            <p:cNvSpPr/>
            <p:nvPr/>
          </p:nvSpPr>
          <p:spPr>
            <a:xfrm>
              <a:off x="5432400" y="4433760"/>
              <a:ext cx="751680" cy="68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7" name="Rectangle 32"/>
            <p:cNvSpPr/>
            <p:nvPr/>
          </p:nvSpPr>
          <p:spPr>
            <a:xfrm>
              <a:off x="6184080" y="3759120"/>
              <a:ext cx="75132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8" name="Rectangle 33"/>
            <p:cNvSpPr/>
            <p:nvPr/>
          </p:nvSpPr>
          <p:spPr>
            <a:xfrm>
              <a:off x="5432400" y="3759120"/>
              <a:ext cx="751680" cy="67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9" name="Line 34"/>
            <p:cNvSpPr/>
            <p:nvPr/>
          </p:nvSpPr>
          <p:spPr>
            <a:xfrm>
              <a:off x="5432400" y="375912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0" name="Line 35"/>
            <p:cNvSpPr/>
            <p:nvPr/>
          </p:nvSpPr>
          <p:spPr>
            <a:xfrm>
              <a:off x="5432400" y="4433760"/>
              <a:ext cx="150336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1" name="Line 36"/>
            <p:cNvSpPr/>
            <p:nvPr/>
          </p:nvSpPr>
          <p:spPr>
            <a:xfrm>
              <a:off x="5432400" y="5119560"/>
              <a:ext cx="1503360" cy="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2" name="Line 37"/>
            <p:cNvSpPr/>
            <p:nvPr/>
          </p:nvSpPr>
          <p:spPr>
            <a:xfrm>
              <a:off x="543240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3" name="Line 38"/>
            <p:cNvSpPr/>
            <p:nvPr/>
          </p:nvSpPr>
          <p:spPr>
            <a:xfrm>
              <a:off x="6184080" y="3759120"/>
              <a:ext cx="0" cy="1360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14" name="Line 39"/>
            <p:cNvSpPr/>
            <p:nvPr/>
          </p:nvSpPr>
          <p:spPr>
            <a:xfrm>
              <a:off x="6935760" y="3759120"/>
              <a:ext cx="0" cy="1360440"/>
            </a:xfrm>
            <a:prstGeom prst="line">
              <a:avLst/>
            </a:prstGeom>
            <a:ln cap="sq"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615" name="Text Box 40"/>
          <p:cNvSpPr/>
          <p:nvPr/>
        </p:nvSpPr>
        <p:spPr>
          <a:xfrm>
            <a:off x="7002360" y="1751040"/>
            <a:ext cx="151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9600" spc="-1" strike="noStrike" u="sng">
                <a:solidFill>
                  <a:srgbClr val="ff0000"/>
                </a:solidFill>
                <a:uFillTx/>
                <a:latin typeface="楷体"/>
                <a:ea typeface="楷体"/>
              </a:rPr>
              <a:t>师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1128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Arial"/>
              </a:rPr>
              <a:t>第二课时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4T01:26:00Z</dcterms:created>
  <dc:creator/>
  <dc:description/>
  <dc:language>en-US</dc:language>
  <cp:lastModifiedBy>万润仪器贸易公司</cp:lastModifiedBy>
  <dcterms:modified xsi:type="dcterms:W3CDTF">2020-08-19T00:50:41Z</dcterms:modified>
  <cp:revision>41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